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605-8D37-4679-BF38-580C314F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64DA-7495-4508-B987-557C2F92CA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BEB-2394-431E-8897-9EFE344900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180F-0625-41C8-8488-42B0BF697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F3A-03BB-4F79-B382-C1049C13D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DAA-E3CC-4F4A-8C8B-9D8048EF7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452D-6B9E-41C5-8C19-E8EA09769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63B-DE3B-4057-87CB-1C53A5317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9D0-F13C-4809-A892-190738DC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139-1E07-445A-9E85-1F29E40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172-44BC-47C5-B0EA-3CF5F8D7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70F-035A-4B25-B9DB-8C94F656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C09-7E12-43F0-81A5-AC79379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B20-18DB-4D5C-A322-C70B1B06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B34-C6D2-4444-9982-91E35F9B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811-BDA7-4611-9A23-35916EE2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994-4B83-4DA6-914D-15FF07C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D20-C959-4536-B728-562961E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6D7-B805-448E-90FF-172B87E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70F-4376-45A1-A5A9-DC1E65F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E5C-7B76-40FE-BD5B-21A6105DC6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riting a Friendly Lett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derstanding the five pa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25ff"/>
                </a:solidFill>
                <a:latin typeface="Comic Sans MS"/>
              </a:rPr>
              <a:t>Five Parts of a Friendly Lett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Head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Gree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Clos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5ff"/>
                </a:solidFill>
                <a:latin typeface="Comic Sans MS"/>
              </a:rPr>
              <a:t>Sign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The heading includes the </a:t>
            </a:r>
            <a:r>
              <a:rPr b="0" lang="en-US" sz="2800" spc="-1" strike="noStrike" u="sng">
                <a:solidFill>
                  <a:srgbClr val="c625ff"/>
                </a:solidFill>
                <a:uFillTx/>
                <a:latin typeface="Comic Sans MS"/>
              </a:rPr>
              <a:t>writer’s</a:t>
            </a: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c625ff"/>
                </a:solidFill>
                <a:uFillTx/>
                <a:latin typeface="Comic Sans MS"/>
              </a:rPr>
              <a:t>address</a:t>
            </a: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 and the </a:t>
            </a:r>
            <a:r>
              <a:rPr b="0" lang="en-US" sz="2800" spc="-1" strike="noStrike" u="sng">
                <a:solidFill>
                  <a:srgbClr val="c625ff"/>
                </a:solidFill>
                <a:uFillTx/>
                <a:latin typeface="Comic Sans MS"/>
              </a:rPr>
              <a:t>date</a:t>
            </a: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120 Tulip Stre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San Diego, CA 9210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December  5, 200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e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The greeting in a letter is the writer’s way of saying “hello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ar Grandpa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d"/>
                </a:solidFill>
                <a:latin typeface="Comic Sans MS"/>
              </a:rPr>
              <a:t>The body of the letter contains the message the writer wants to se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 am writing to thank you for my birthday present.  I love my new paint set.  When I grow up I want to be an arti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os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e closing in a letter is the writer’s way of saying “goodbye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Love always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gn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The final part of a letter is the signature. The writer’s name is written in cursive as the signatu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625ff"/>
                </a:solidFill>
                <a:latin typeface="Lucida Handwriting"/>
              </a:rPr>
              <a:t>Harr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20:08:40Z</dcterms:created>
  <dc:creator>SDCS SDCS</dc:creator>
  <dc:description/>
  <dc:language>en-US</dc:language>
  <cp:lastModifiedBy>teacher</cp:lastModifiedBy>
  <dcterms:modified xsi:type="dcterms:W3CDTF">2010-11-06T19:42:11Z</dcterms:modified>
  <cp:revision>8</cp:revision>
  <dc:subject/>
  <dc:title>Writing a Friendly Letter</dc:title>
</cp:coreProperties>
</file>